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BADF-AFAC-4D02-8ED1-25E115A1C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5F43-1678-48EA-8843-9FFFD284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B89-2333-4A0E-8151-B15456F5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DAB-BE76-4A4F-9DAE-1BF863198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9EB-02A8-4425-ABAE-0ABFE4A1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74C-0AE8-45AA-B842-7275CBA0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EE00-E5C6-4002-821D-AB891DF23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25D3-9224-4DAF-82C3-B5538B30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D456-C739-4766-A79A-4A4CC41FE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64BA-E55B-4D41-966D-1841226D4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B85-F211-4089-A5E9-EB4B96C30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48B4-5076-477A-B1E2-1492ACCF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99DB-C948-4C20-8C74-EF71C304C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wa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33360" y="3657240"/>
            <a:ext cx="7391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y: Roby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. Sca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7th Peri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What are fir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How do first waves fo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How many first wav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457200"/>
            <a:ext cx="396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7:17:27Z</dcterms:created>
  <dc:creator>PA Department of Education</dc:creator>
  <dc:description/>
  <dc:language>en-US</dc:language>
  <cp:lastModifiedBy>PA Department of Education</cp:lastModifiedBy>
  <dcterms:modified xsi:type="dcterms:W3CDTF">2009-05-27T17:25:05Z</dcterms:modified>
  <cp:revision>1</cp:revision>
  <dc:subject/>
  <dc:title>First waves</dc:title>
</cp:coreProperties>
</file>